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3B2F-DD68-4BAE-AA5C-CA6595C93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106A-7F80-4DB7-8A4C-26A1A1363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9801-0F09-4B12-A49E-CABBE566C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2DDF-782E-4818-A0B7-1299F37E4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21E6-E2B9-4EA5-82CC-B57548F8B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A42C-98C0-4C90-99E6-A5E021C11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61C5-937E-4229-BAC4-C74F458CC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A62A-91F7-44FB-A4EB-E5F48237B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16B6-93FE-4FFD-9E6F-378010B39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BA47-7800-4EF0-B776-60774793A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01C4-C0E2-4F62-923D-EEE9555D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FAC1-ACA5-4457-A1B6-86DE8811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EE64A-57A0-45B5-B794-B7F2CB0057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Comic Sans MS"/>
              </a:rPr>
              <a:t>Title</a:t>
            </a:r>
            <a:r>
              <a:rPr b="0" i="1" lang="en-US" sz="4400" spc="-1" strike="noStrike">
                <a:solidFill>
                  <a:srgbClr val="333399"/>
                </a:solidFill>
                <a:latin typeface="Comic Sans MS"/>
              </a:rPr>
              <a:t>: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28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title tells the reader what the story is about in a few wo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451560" y="228600"/>
            <a:ext cx="2692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Beginning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Time –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Place – W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Characters – Wh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114800" y="1371600"/>
            <a:ext cx="1074600" cy="1219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886200" y="2819520"/>
            <a:ext cx="1897200" cy="1981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4572000" y="5334120"/>
            <a:ext cx="251460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Middle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4038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tails of the event – What happen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* small mo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458040" y="0"/>
            <a:ext cx="2685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End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clusion / Closure - How did the event e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257640" y="2557440"/>
            <a:ext cx="262872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7T15:22:40Z</dcterms:created>
  <dc:creator>Jennifer Dalton</dc:creator>
  <dc:description/>
  <dc:language>en-US</dc:language>
  <cp:lastModifiedBy>Jennifer Dalton</cp:lastModifiedBy>
  <dcterms:modified xsi:type="dcterms:W3CDTF">2012-05-23T16:52:51Z</dcterms:modified>
  <cp:revision>3</cp:revision>
  <dc:subject/>
  <dc:title>Title:    </dc:title>
</cp:coreProperties>
</file>